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D405-47B0-4CC3-9BEB-3D796A1D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EF81-4C32-4112-BE35-9C00C155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9D7B-19E9-4245-B272-18DD3408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341A-BC5E-4853-87F6-32FD6ED1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4932-2D09-4A1B-ACAF-C7CD1378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C7E3-899B-4048-87FA-90DA87CE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9F81-5694-494F-9FD4-45A3ACBF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4725-DE69-4B0B-A964-9AE1B3CC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F3E4-7A97-4556-98D7-09501E54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9AAB-0EFC-4C85-B388-91AE7F31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8946-A690-4E94-89BF-28C807FF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B2A6-7391-4AE3-BDE4-5BE63978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6879-94EB-4D32-8CB8-B2791A77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D376-D804-4CAB-8D4F-276E497D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5336-9E94-41B3-8913-BADF88AE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0243-F50E-44F0-8B48-762BE21E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5C13-1228-4184-B1D6-AB98521D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0CB7-C542-40A2-BBFF-AB9E8F7A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D66A-9210-40D6-917B-E7DA6BF1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8D4D-E7D5-4BD2-AF51-786810E1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1E07-F466-4D1A-B40C-C01A8EC2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4B15-1F2B-4DE0-AAE5-01287632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9F31-8DF3-4A86-BB3C-C0337A1C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682A-8A58-4561-8C37-70B374D1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F512-9C14-4C27-BB57-242550FC4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F660-B838-42B4-BB2C-F6C53E1A8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2215080" y="1262160"/>
            <a:ext cx="46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187280" y="2492280"/>
            <a:ext cx="662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actice No 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terial t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8920" y="3068640"/>
            <a:ext cx="68166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actical execu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8560" y="333000"/>
            <a:ext cx="878508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erial blood pressure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nsio arterial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85600" y="1628280"/>
            <a:ext cx="72342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erial blood pressure - the force exerted by the blood on the unit surface area of the artery wall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mHg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 moves through the system of blood vessels under the influence of the pressure with which the heart, like a pump, pushes blood into the cir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sure is highest in the aorta and decreases to the arterioles and capillaries, while in the large veins it is almost equal to zero (or neg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8560" y="259920"/>
            <a:ext cx="878508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erial blood pressure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nsio arterial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85600" y="1628280"/>
            <a:ext cx="72342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main factors that affect the value of arterial blood press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chanical activity of the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ventricu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ose performance is the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CARDIAC OUT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 RESISTANCE to blood flow (P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especially resistance in arteri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 = MV* x P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A normal amount of blood in the circulatory system i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979640" y="836280"/>
            <a:ext cx="73771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n order to 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ermine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t si requir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mechanical capacity of the hear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amount of b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n order to 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ermine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it si requir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nerve vasoconstrictor tone of arteriol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blood visco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hange in any factor leads to changes in TA (hypotension / hypertens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66880" y="428400"/>
            <a:ext cx="737712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Diastolic and systolic arterial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olic pressure val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blood pressure value that occurs in the arteries during systole, when the stroke volume is ejected from the left ventricle into the circulation (the pressure value at which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t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ars over the brachial artery during blood pressure measur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stolic pressure val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value of blood pressure in the arteries during diastole (the pressure value at which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ver the brachial arte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pp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crease in diastolic pressure is (almost) always due to an increase in P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57120" y="1143000"/>
          <a:ext cx="8215560" cy="4441680"/>
        </p:xfrm>
        <a:graphic>
          <a:graphicData uri="http://schemas.openxmlformats.org/drawingml/2006/table">
            <a:tbl>
              <a:tblPr/>
              <a:tblGrid>
                <a:gridCol w="2928960"/>
                <a:gridCol w="2643120"/>
                <a:gridCol w="2643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olic pressure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stolic pressure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blood pres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blood pres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-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irst 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-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-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-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-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-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rth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</a:tbl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840" y="642600"/>
            <a:ext cx="8572680" cy="43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od pressure classification for adults (18 years and ol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14320" y="214200"/>
            <a:ext cx="60973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of arteri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71800" y="1143000"/>
            <a:ext cx="621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rectly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ygmomanometer with cuf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alpation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uscultation method - Korotkov's tones (19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3" descr=""/>
          <p:cNvPicPr/>
          <p:nvPr/>
        </p:nvPicPr>
        <p:blipFill>
          <a:blip r:embed="rId1"/>
          <a:stretch/>
        </p:blipFill>
        <p:spPr>
          <a:xfrm>
            <a:off x="607212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"/>
          <p:cNvPicPr/>
          <p:nvPr/>
        </p:nvPicPr>
        <p:blipFill>
          <a:blip r:embed="rId2"/>
          <a:stretch/>
        </p:blipFill>
        <p:spPr>
          <a:xfrm>
            <a:off x="5857920" y="3071880"/>
            <a:ext cx="3286080" cy="378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"/>
          <p:cNvPicPr/>
          <p:nvPr/>
        </p:nvPicPr>
        <p:blipFill>
          <a:blip r:embed="rId3"/>
          <a:stretch/>
        </p:blipFill>
        <p:spPr>
          <a:xfrm>
            <a:off x="0" y="0"/>
            <a:ext cx="3071880" cy="292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1" descr=""/>
          <p:cNvPicPr/>
          <p:nvPr/>
        </p:nvPicPr>
        <p:blipFill>
          <a:blip r:embed="rId4"/>
          <a:stretch/>
        </p:blipFill>
        <p:spPr>
          <a:xfrm>
            <a:off x="300024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"/>
          <p:cNvPicPr/>
          <p:nvPr/>
        </p:nvPicPr>
        <p:blipFill>
          <a:blip r:embed="rId5"/>
          <a:stretch/>
        </p:blipFill>
        <p:spPr>
          <a:xfrm>
            <a:off x="0" y="2928960"/>
            <a:ext cx="59292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3:30:46Z</dcterms:created>
  <dc:creator>Maja</dc:creator>
  <dc:description/>
  <dc:language>en-US</dc:language>
  <cp:lastModifiedBy>Windows User</cp:lastModifiedBy>
  <dcterms:modified xsi:type="dcterms:W3CDTF">2023-10-20T08:52:42Z</dcterms:modified>
  <cp:revision>59</cp:revision>
  <dc:subject/>
  <dc:title>Slide 1</dc:title>
</cp:coreProperties>
</file>